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698C-3405-4908-8625-F074DA0F5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lintoncc.suny.edu/faculty/michael.gregory/files/bio%20102/bio%20102%20laboratory/fetal%20pig/Mouth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ylivercanceroptions.com/mylivercanceroptions/pages.aspx?page=About/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F6D-C2E7-452D-9C5E-161D9C24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19C-8181-4E66-A5D7-29179085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A42-9721-4299-9405-F51F4EBE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060-91C0-46F3-9766-A5A63CB4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976-AB91-4D5D-952B-DB03682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949-A5CD-4D2B-94F4-0D000ECF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625-7042-4930-863D-284458C2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576-DF20-4A5C-808C-6CA1025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7B5-2190-4D32-8670-4CA145E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51-7AF7-4886-8FD7-CAA7ED0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E87-27CC-45F6-BFA2-2363973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B50-7C2C-4990-A0BA-7B73DB9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31F-794D-45E2-965F-9324933ED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tal Pig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Spleen/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3000" y="1828800"/>
            <a:ext cx="505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5:01:10Z</dcterms:created>
  <dc:creator>rubina khan</dc:creator>
  <dc:description/>
  <dc:language>en-US</dc:language>
  <cp:lastModifiedBy>rubina khan</cp:lastModifiedBy>
  <dcterms:modified xsi:type="dcterms:W3CDTF">2015-01-13T15:15:03Z</dcterms:modified>
  <cp:revision>2</cp:revision>
  <dc:subject/>
  <dc:title>Fetal Pig Dissection</dc:title>
</cp:coreProperties>
</file>